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projctor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7D4-9D8A-4066-BBD8-79654C28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6FC-314E-49F6-8D45-019BBDA2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72A-B0B5-44DE-9CAC-99A665BD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685-7C2C-48CB-B49B-706F29FF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D74-CBA8-49F2-A7AF-83D5F9DF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430-4222-48EE-8BAC-4D4A1797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E0F-8D4A-4E26-9363-4BE5F800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B1F-321E-42A1-AD6E-41498843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168-52A0-4D02-9A20-14E8BC93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9A6-EE41-46A5-BA3B-4A7D3451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140-1FCF-49B3-AD9D-E1299977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C3C-4B0D-471C-9398-885396BA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EA9C-14A8-49D8-B626-9C045645E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arenttoparent.com/images/teacher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ms-germany.com/pencil.gif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wf.org/newedit/edit04302001/doll.gif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dl.qc.ca/journal/nov99/bus.gif" TargetMode="External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-Primer Dolch Word Li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Julie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76720" y="4495680"/>
            <a:ext cx="2582640" cy="2000520"/>
            <a:chOff x="3276720" y="4495680"/>
            <a:chExt cx="2582640" cy="2000520"/>
          </a:xfrm>
        </p:grpSpPr>
        <p:pic>
          <p:nvPicPr>
            <p:cNvPr id="4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276720" y="4495680"/>
              <a:ext cx="258264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62160" y="5029200"/>
              <a:ext cx="1142640" cy="609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d L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ive the pencil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724280"/>
            <a:ext cx="1622520" cy="16462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you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dol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343400"/>
            <a:ext cx="230184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re going on a bu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4343400"/>
            <a:ext cx="1646280" cy="17146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color is the bal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1839960" cy="1863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 dad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ork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har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97180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bird flies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81280" y="4648320"/>
            <a:ext cx="2468520" cy="1611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2255760" cy="20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7:56:24Z</dcterms:created>
  <dc:creator>jctc</dc:creator>
  <dc:description/>
  <dc:language>en-US</dc:language>
  <cp:lastModifiedBy>jctc</cp:lastModifiedBy>
  <dcterms:modified xsi:type="dcterms:W3CDTF">2001-09-14T17:59:28Z</dcterms:modified>
  <cp:revision>2</cp:revision>
  <dc:subject/>
  <dc:title>Pre-Primer Dolch Word List Part 5</dc:title>
</cp:coreProperties>
</file>